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3FC2-8C6D-433A-817D-1828A56BA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Total Age 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D26E-D85D-4F92-90F2-53BDFF76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F28F-73A2-4EEA-A271-FBEAA203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522D-2C1D-47D3-93C6-4B6A8B536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8A9D-56F6-41E6-81BB-37B88C99F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A122-BAAF-4977-92E1-0B9DE58C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B644-C993-4608-BA4F-A6719850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5305-CC2B-4C4A-9343-0E7E89CB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4CEC-1A7E-4E64-B3BB-C3AF4F90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C0C4-703A-4A19-BA36-DC36116A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57CC-621D-4998-91C3-6BB88864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00B1-8975-4074-96FF-CF4CCB52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6A44-62F9-495B-A0D7-7384EABE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ED2A-5B20-46F8-A3C0-45198796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089A-4833-4C6E-9026-94FCD302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9C8C-4E07-49EA-9162-DFF68655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CF30-7217-4679-9001-997E70887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A55B-8C95-4DAB-B1E6-03029AE00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34F5-0A27-4191-9453-15F97F4D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46C3-7BC0-4C8C-9124-AF4676FE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9112-DF25-4249-AB4B-CDA0D253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4008-FB77-4048-8689-107F1AB2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14AE-F86E-4CEF-B1A7-81FBFD01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5C9D-199C-4561-B7A7-36AF1535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CA1D-696B-485D-9464-8FF2BBB0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3571-3A67-48D6-BB86-3D3463A956D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0715-46A7-4E2D-B271-94BEAAF48F1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03720" y="1554120"/>
            <a:ext cx="59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The Future of Social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56200" y="3276720"/>
            <a:ext cx="231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ecision Mod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fessor Jur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ecember 12,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Team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onathan C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ichele Ry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chard Schlip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andice W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Verdana"/>
              </a:rPr>
              <a:t>The Mode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2848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Verdana"/>
              </a:rPr>
              <a:t>Solver Result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197320" y="2211480"/>
            <a:ext cx="2946600" cy="15984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47640" y="2209680"/>
            <a:ext cx="3260880" cy="15987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184040" y="1295280"/>
            <a:ext cx="676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inimum tax rate and retirement age required to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reach Social Security Solvenc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23960" y="2971800"/>
            <a:ext cx="3048120" cy="3049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24400" y="2971800"/>
            <a:ext cx="2743200" cy="3049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4343400"/>
            <a:ext cx="4038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ith a 30 year time horizon the required tax rate given the retirement age of 65 is 5.0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n order to cover benefits ow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4343400"/>
            <a:ext cx="4038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ith a 30 year time horizon the legal retirement age to receive benef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given a tax rate of 4.5% should b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67 years old or ol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Verdana"/>
              </a:rPr>
              <a:t>Monte Carlo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495680" y="4114800"/>
            <a:ext cx="4343400" cy="2216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495680" y="1515960"/>
            <a:ext cx="4343400" cy="22179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1591920"/>
            <a:ext cx="4114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30 year time horizon: Solver found required tax rate of 5%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Monte Carlo: 5% tax rate only results in 24.4% probability of solvency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4114800"/>
            <a:ext cx="4114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30 year time horizon: Solver found minimum retirement age of 67 years 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Monte Carlo: 67 year old retirement age only results in 37.2% probability of solv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Verdana"/>
              </a:rPr>
              <a:t>Conclusion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ocial Security Insolvency is driven by: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Aging in population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Expected rise in benefits per retiree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mall moves in the decision variables (retirement age and tax rate) greatly affect the solvency of the system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We conclude with confidence that when we retire, we will all receive our expected benefits!!!!!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Verdana"/>
              </a:rPr>
              <a:t>Question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Verdana"/>
              </a:rPr>
              <a:t>Agend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ocial Security Background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Problem Definition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Formulation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axes &amp; benefits modeling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Population modeling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ssumptions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he Model &amp; Results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Solver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Monte Carlo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onclusion and Recommendation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28600" y="4572000"/>
            <a:ext cx="4038480" cy="10666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523880"/>
            <a:ext cx="4038480" cy="10670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3048120"/>
            <a:ext cx="4038480" cy="10666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Verdana"/>
              </a:rPr>
              <a:t>Social Security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b76"/>
                </a:solidFill>
                <a:latin typeface="Verdana"/>
              </a:rPr>
              <a:t>Pay-as-you-go system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1523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Less workers today per retire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8200" indent="-17820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In less than 15 years, the program benefits will exceed intake from  payroll tax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480060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b76"/>
                </a:solidFill>
                <a:latin typeface="Verdana"/>
              </a:rPr>
              <a:t>Poor invest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3048120"/>
            <a:ext cx="403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3124080"/>
            <a:ext cx="4038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b76"/>
                </a:solidFill>
                <a:latin typeface="Verdana"/>
              </a:rPr>
              <a:t>The Social Security “Tru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b76"/>
                </a:solidFill>
                <a:latin typeface="Verdana"/>
              </a:rPr>
              <a:t>Fund” does not really ex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5720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Rate of return of less than 2% for Baby boomers and even lower for Gen X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31240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Dependent on Tax Collection o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     </a:t>
            </a: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Borrowing Mon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Verdana"/>
              </a:rPr>
              <a:t>Defining the Problem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Key Issue: Social Security predicated on growing population. Declining birth rates result in a demographic shift towards an older population</a:t>
            </a: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We analyzed the policy choices that will determine the future of the social security system</a:t>
            </a: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Verdana"/>
              </a:rPr>
              <a:t>Objective:</a:t>
            </a: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 Determine the appropriate retirement age and tax rate necessary to keep the system solvent </a:t>
            </a: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Verdana"/>
              </a:rPr>
              <a:t>Formulation: 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Taxes &amp; Benefits Model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Equalize taxes collected and benefits paid for a given time horizon (10,20,30,40,50 years)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axes collected assumed to be % GDP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Benefits paid are a function of the number of people at or above the retirement age and the benefits paid / retiree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Key to social security solvency is understanding population migration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280" y="1371600"/>
            <a:ext cx="8839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Verdana"/>
              </a:rPr>
              <a:t>Formulation: 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Population Migration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800600" y="3871800"/>
            <a:ext cx="3807000" cy="2281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523880" y="3505320"/>
            <a:ext cx="207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Millions of peop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85800" y="3933720"/>
            <a:ext cx="3627360" cy="21891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52280" y="1467000"/>
                <a:ext cx="883944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Δ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R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Δ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R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838080" y="2160720"/>
            <a:ext cx="3124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= age b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 =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X = number of peo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29280" y="2160720"/>
            <a:ext cx="3200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R = mortality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= immigra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6216480"/>
            <a:ext cx="891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* Formula for age bands 5-79.  Age band 0-4: new births are migration into the band.  Age band 80+: excludes migration (except death) out of ban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Verdana"/>
              </a:rPr>
              <a:t>Baseline Assumption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560" y="1614240"/>
            <a:ext cx="41907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Population Assumptions</a:t>
            </a: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Net Immigration rates 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Year 0: 946,142</a:t>
            </a: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2% subsequent growth</a:t>
            </a:r>
            <a:r>
              <a:rPr b="0" lang="en-US" sz="14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Births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Year 0: 4 million</a:t>
            </a: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1% subsequent growth </a:t>
            </a: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Mortality rates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GDP Growth 1% Real for the 20-65 population</a:t>
            </a: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1571760"/>
            <a:ext cx="41911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Benefi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Year 0: $13,626 per retire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0.6% real grow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Tax Rate 4.5% of GD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Time Horizon 30 yea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Interest Rate 2% re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Retirement age 6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Verdana"/>
              </a:rPr>
              <a:t>Baseline Result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258920" y="1600200"/>
            <a:ext cx="6626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Verdana"/>
              </a:rPr>
              <a:t>Social Security Cost Projection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239240" cy="43257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133720" y="3567240"/>
            <a:ext cx="5823000" cy="1657080"/>
          </a:xfrm>
          <a:prstGeom prst="rect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Covered by Tax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17:36:54Z</dcterms:created>
  <dc:creator> mryba</dc:creator>
  <dc:description/>
  <dc:language>en-US</dc:language>
  <cp:lastModifiedBy>Stern Business School</cp:lastModifiedBy>
  <dcterms:modified xsi:type="dcterms:W3CDTF">2005-12-11T23:17:06Z</dcterms:modified>
  <cp:revision>53</cp:revision>
  <dc:subject/>
  <dc:title>Slide 1</dc:title>
</cp:coreProperties>
</file>